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487D-84A5-4214-92C0-81E44717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C2E4-C93C-4178-A325-24020D33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409-B2E7-4988-8CC5-88BB7E0F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EDD-19C4-41D5-BC90-8088C685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918F-BCB0-47AE-9733-688228CA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EEFC-43C0-4996-AA0A-A300569D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A3B5-4A44-4DB0-9D7C-23F64D81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1157-13FB-4EC9-A742-FBD66900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074F-181A-4DB9-A7F9-6AFC5150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C417-63BB-41F3-90AA-679C9760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8727-E4E5-4A86-8AD2-C1F838E0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2158-808C-434D-8B02-E6FEBDE7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2E69-8E02-488C-8D9F-D2BE3ED1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F790-182B-48F3-80A5-57D5519A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522A-B8D8-481D-B9E6-54CBC7A7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A9D6-52FE-4BE0-AD9F-294B27AC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0FB7-D35B-4A22-98FE-CCEA911F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B5F-2C3C-4025-B616-43CCDD1B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B9B-BBB8-4049-8B44-0CDD7267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D922-9F72-44AD-8C3F-12A32942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1EFC-86D4-4F48-8E43-CF322D8F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E91F-122B-420F-90F8-17CFCA40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667F-7665-4655-B469-4BBE6AD6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A9A0-E47B-4A63-B6FA-8F266DB9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8EB2-EB1A-4993-A194-14FB8F6240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53C5-469B-4220-9AD7-47FD8FA122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ыбор мачтовых подъемников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дбора грузовых и грузопассажирских мачтовых подъемников по грузоподъемности и высоте подъема груза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графических изображений выбранных мачтовых подъемников в плане и разрез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59151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абор подъемников формируется в таблице и сохраняется в чертеже. Подъемники в наборе можно изменять и удалять. Для выбранных в таблице подъемников можно построить изображения в плане и разрезе, а также вставить или удалить выноск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260440" y="963720"/>
            <a:ext cx="5164200" cy="48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мачтового подъемни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43040" y="576252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Мачтовые подъемники можно подобрать по грузоподъемности, максимальной высоте подъема и возможности горизонтального перемещения груза. Высота подъемника подбирается автоматически в соответствии с заданными параметра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352600" y="922320"/>
            <a:ext cx="5016600" cy="47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19044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строение мачтовых подъемников на чертеже в плане и разрез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3040" y="578808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троение изображений выбранного подъемника в плане и разрезе с указанием масштаба построения. Дополнительно могут быть построены условные обозначения опасных зон и размеры подъемника и опасной зоны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4791240" y="1195560"/>
            <a:ext cx="3993840" cy="2662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725400" y="1203480"/>
            <a:ext cx="400536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я мачтового подъемника на чертеже в плане и разрез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881360" y="2541600"/>
            <a:ext cx="2485800" cy="35337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5710320" y="1362240"/>
            <a:ext cx="2270160" cy="517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7T13:24:51Z</dcterms:modified>
  <cp:revision>248</cp:revision>
  <dc:subject/>
  <dc:title>Слайд 1</dc:title>
</cp:coreProperties>
</file>